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A1A-B77F-415E-829B-228BAE27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016-1112-433C-A473-BE370B2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568-CCB6-48AB-B847-870CCABD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AAF-D52D-4110-A2A6-2FA264A8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F64-4F90-45B0-82C2-EC9B611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023-DFA5-4910-A9B5-4D1C911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333-959E-4E0B-BCE8-3354D4B5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928-0C21-400D-911C-9FDCDF7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245-0B4F-408C-9A75-0939AFD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0D3-5EE3-45D9-B92F-432FA86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E15-8861-40CF-A93B-5ABAA8A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408-B9C9-4A35-ADA4-265EF3A4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263-2C46-447B-9970-C0E5050EB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 &amp;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1970, entry into university was merit-based and it benefited the English-edu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Tamils entering university was higher than Sinhalese in terms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qual number of Tamils and Sinhalese entered the more respected courses (medicine and engine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970, a new admission criteria was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had to score more than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in university were reserved for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 was no longer meri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Tamil population were concentrated in the highland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Tamil population make up 95% of the Jaffna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are found in large numbers everywhere except Jaffna and Battica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lement Policy (195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peasants transferred from densely populated areas to Tami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peasants given land to cul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 monks and the Sri Lankan army (mostly Sinhalese) also occupied Tami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Tamil villages were empt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moved into land that belonged to Tam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rs were also a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the Sinhalese and Tamils in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ylon Citizenship Act passe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hip granted to people born in Sri La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 Tamils became stat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 Tamils did not have basic citizenship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ndians still worked on plantations and contributed to the Sri Lankan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038480"/>
          <a:ext cx="6172200" cy="8938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helps stateless Indian Tamils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rtain number return to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 to be granted Sri Lankan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not fully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 Indian Tamils remain sta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f Citizenship to Persons of Indian Origin Bill passed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 given to any person of Indian origin who have stayed in Sri Lanka since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British rule, English-educated Tamils had powerful jobs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were disadvantaged as they could not read or write English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a declared official language under Official Language Act (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a used in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given 3 years to learn Sinhala or be dis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upset as they found it difficult to find jobs or be prom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demonstration held but disru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ing occurred and death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govt and Tamil leader sign pact (19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 made language of administration in Northern and Eastern areas where most Tamils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s still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, Sri Lankan constitution has granted greater recognition to the Tami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orthern and Eastern provinces, Tami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of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i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3:45:53Z</dcterms:created>
  <dc:creator>moe</dc:creator>
  <dc:description/>
  <dc:language>en-US</dc:language>
  <cp:lastModifiedBy>moe</cp:lastModifiedBy>
  <dcterms:modified xsi:type="dcterms:W3CDTF">2009-01-19T02:39:52Z</dcterms:modified>
  <cp:revision>7</cp:revision>
  <dc:subject/>
  <dc:title>Conflict in Multi-Ethnic Societies</dc:title>
</cp:coreProperties>
</file>